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34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E92-1E58-44FC-9259-1B5DFFE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854-AD38-464C-B500-F73C4341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AFD5-2668-475A-AC09-640D00B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06B1-A01F-44A6-89CF-ECC0BE7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5A29A-F952-4F3A-8528-5C3D213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56337-1D38-4BD4-AB13-637AC8D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BF122-A370-4DF6-9232-D6C9EF8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461F2-697B-42BC-82D3-3251AD7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FFE21-1226-437E-A300-80D2249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827CD-3098-44EE-9E77-6ED21901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CF3E8-53F5-448C-90EF-4CBEB921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9A4-5F3E-49CD-A55A-3AD9D5A1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39D-2816-4FA8-9996-0C3EE03A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A8A7-3891-4537-AC24-BDE189C6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A049-70F4-47B8-821C-06CA128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A373-F3B9-4A74-816F-D7063591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76D-6DC7-42D7-AA77-C97754BA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AED-9203-4DC6-B363-EEAA5AF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6147-391E-4338-91A9-B2A24C4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39BC-9205-49A8-919F-E2E7618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7CD-2728-4E8E-BFBD-0A909199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98F0-5B6A-4BDA-8661-22F81F2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D05D-299D-40E1-AA99-CDA27F7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41A-D1A7-48AF-AF62-85FDAC29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7DE2-910F-4D04-A5C5-AD09B0A4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06E-AC9A-49DA-BCF4-4EE081D3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24CD-1D96-4D6A-90FD-FEF1046E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C1E1-7526-46C2-B96F-BFA6E2B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24E8-6096-4625-8523-C81F73D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18A7-438B-482D-B91F-A25D24C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D529-2507-4569-B825-C358048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F05-074F-4254-BA31-C35C6DD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3BC5-8143-4624-9C7E-B3FD72A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0598-D8AD-447B-8C5B-2C63FD77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B33C-D98D-4648-A680-52D5A5E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F998-947D-403B-BD02-6AFF6E75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9770-909D-4E0B-84F6-C501876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678C-7458-4711-8245-54765DED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13D4-98F9-4D13-83C5-B4D5E187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6FB2-DCC2-48BB-A57E-A647AACC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5D49-4580-465B-992D-25166168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CAF1-0855-480C-8B03-BEF2553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1D0-93BD-4D35-BF86-CEFDE521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8F75-E719-4CAD-992C-67371A73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4319-87AD-45AB-8D62-6AF73D0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6A1C-AFD4-4627-AB69-DD14189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7889-E607-483B-9AFB-5A888D2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1047-8EBB-4F7B-A75B-7F4DA1E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41DE-8005-41E9-A49A-A8F852F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9DE1-BA27-4047-8B0A-FBE177A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04D8-2397-4D64-BE0D-DC415AE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85BC-50DA-48ED-AE9B-52A961FA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11B6-E099-4F30-BC77-4346175F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3D8-D0C6-4EF5-9960-4CFD387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464C-E7EF-4EB7-972D-A47EEF80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1E81-1AFD-4D53-AF90-FE066BC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3DA1-FC76-4D70-AC37-FAACC7D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0F85-105C-47DE-BA95-0065A99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A5FD-97F5-4987-AA14-AEB606E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7B4A-F61E-4D85-B029-9209594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F2D0-3345-4C7D-894C-4D5EB99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94E0-56C3-49C8-9A1A-57030F7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7FE6-5840-4355-B7EA-3255398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431A-4521-4609-A9D6-E4C49E57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065-E661-4B90-8BEC-62303FB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386B-4DF9-41F5-AE9A-877DF443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8379-FDBF-4A62-B9D1-1ADA7101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F9AE4-DC48-45A1-886B-48D5ECD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6164-7269-43E6-9968-92DDE11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6504-36C3-48E2-ADA5-9D6E659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4C2B-4CE1-45F3-9385-8498184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63E3C-6304-41D7-B0DB-3E18A30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68899-D69F-4EC0-8D63-9D3CD41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EDC5-EF6C-4FBD-8620-A6106DC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CEEF-5FD5-47E8-A321-ED715537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291-1D49-4E8A-BF66-322D976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5B74-D2EF-4F57-9F0C-7788F00C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9268-4516-4D41-B7D6-E7E3D480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5B03-A52E-45E6-9B89-B39FB0E0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09BC-6287-4088-B301-5E8791AD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BDD2-904E-4794-88C4-4DEF003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19B2-85B4-4C5D-ACF9-273DB3C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EE6E-F405-46B0-B7BE-882925D5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52F0-DB08-4E9C-B081-A98A570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91BF-145B-4C3A-ABDE-BFCE357F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48800-B5D8-4500-A41B-5EC0EB1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00C-F992-4406-B601-BB86AC2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7235-E0C9-4497-A26D-B7F7222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ADC5-18DD-4824-8BFA-4A329D22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768F-4E9F-42CC-AB6F-5C5C8469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9224-E823-430A-BEFB-89FF8F6E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37C2-C2A2-4F74-A7BB-EA991944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0941-3635-41B7-9EF4-1DF909C2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3FB2-3386-4FF7-997C-B53084C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51F9-C158-415B-B0FC-EB5DB0E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D9FC-CAC2-4475-90BD-C09F9CC4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59BE4-2F34-42DD-95E0-FB08077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0FD-3938-4B4E-ADCD-97C655F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A610-C336-4381-8792-D47FEBC5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97630-88A5-4F62-8197-DC29768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BA4F5-70F7-487D-A724-D89546C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5B43-CF96-4DD1-8065-40B6660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31F7E-A438-40F8-83F3-17068F2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5C75-3DF0-4511-A09C-6E3CF470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51D8-B227-425A-902B-2F4D3047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3916-A14D-4982-9488-5ACD014E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B5260-8462-422C-BEFC-6244E1E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A5240-3057-4216-97F8-446EE10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C02D-1EAD-4ECB-A734-9DB140F2CC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159-1B4A-424D-8A4E-6A1DE0D135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B84-D4DD-44FC-A2D1-D6E0344CBB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2E5-E22F-4820-B25B-4C365F6069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985-F51B-4005-9979-2F4C38591C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21E-C399-456B-9D3A-2DAA4E14DA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5180-6AE7-4762-92DF-9A446B869C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604-69EB-43ED-8BAB-FDCF4579CE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BE28-D378-4510-AE4C-09524E9D3D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8474040" cy="526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85440" y="5791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Выполнила студентка 643 гр. Пашинковлят О.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По программе Шпикаловой Т.Я «Изобразительное искусство» 4 к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4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осим цвет на оставшиеся элементы – лист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Гордецкая роспись1-4"/>
          <p:cNvPicPr/>
          <p:nvPr/>
        </p:nvPicPr>
        <p:blipFill>
          <a:blip r:embed="rId2"/>
          <a:stretch/>
        </p:blipFill>
        <p:spPr>
          <a:xfrm>
            <a:off x="4708440" y="609480"/>
            <a:ext cx="3073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ша роспись состоит из трех основных элементов городецкой росписи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Купав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ородецкая роз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Лист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 этом этапе мы начинаем прорисовывать черты этих элем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Гордецкая роспись1-5"/>
          <p:cNvPicPr/>
          <p:nvPr/>
        </p:nvPicPr>
        <p:blipFill>
          <a:blip r:embed="rId2"/>
          <a:stretch/>
        </p:blipFill>
        <p:spPr>
          <a:xfrm>
            <a:off x="4705200" y="609480"/>
            <a:ext cx="307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Гордецкая роспись1-6"/>
          <p:cNvPicPr/>
          <p:nvPr/>
        </p:nvPicPr>
        <p:blipFill>
          <a:blip r:embed="rId2"/>
          <a:stretch/>
        </p:blipFill>
        <p:spPr>
          <a:xfrm>
            <a:off x="3203640" y="1554120"/>
            <a:ext cx="28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Гордецкая роспись1-7"/>
          <p:cNvPicPr/>
          <p:nvPr/>
        </p:nvPicPr>
        <p:blipFill>
          <a:blip r:embed="rId2"/>
          <a:stretch/>
        </p:blipFill>
        <p:spPr>
          <a:xfrm>
            <a:off x="2819520" y="1143000"/>
            <a:ext cx="328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чность выполнения элемен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ккуратность (на рисунке не должно быть помарок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Рисунок 3" descr="s7960541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пикалова Т.Я «Изобразительное искусство» 4 к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тодические разработки Шпикалова Т.Я. «Изобразительное искусств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Городецкая роспись держит свое начало от резных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 городецких прялок,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мевших свою особенность: гребень и донц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зже мастера для изобразительного богатства стали применять подкраску, яркое сочетание желтого цвета с темным дубом, добавление синего, зеленого, красного цветов делало донце еще более нарядным и красочным. Известным мастером инкрустированных донец с подкраской был Л. В. Мельников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Городецкие мотивы — сцены городской жизн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обходимость увеличить производство прядильных донец натолкнуло мастеров на мысль упростить технику декоративного оформления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прялка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1904760" cy="42195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прялка 2.jpg"/>
          <p:cNvPicPr/>
          <p:nvPr/>
        </p:nvPicPr>
        <p:blipFill>
          <a:blip r:embed="rId3"/>
          <a:stretch/>
        </p:blipFill>
        <p:spPr>
          <a:xfrm>
            <a:off x="6705720" y="1295280"/>
            <a:ext cx="184788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Заголовок 1" descr=""/>
          <p:cNvPicPr/>
          <p:nvPr/>
        </p:nvPicPr>
        <p:blipFill>
          <a:blip r:embed="rId4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5" descr="dekorativnaya_doska_20381163_1_F.jpg"/>
          <p:cNvPicPr/>
          <p:nvPr/>
        </p:nvPicPr>
        <p:blipFill>
          <a:blip r:embed="rId5"/>
          <a:stretch/>
        </p:blipFill>
        <p:spPr>
          <a:xfrm>
            <a:off x="3200400" y="2590920"/>
            <a:ext cx="2819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Городецкий стиль отличается прежде всего содержательностью. В росписях основное впечатление дают </a:t>
            </a:r>
            <a:r>
              <a:rPr b="0" lang="ru-RU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жанровые сцены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. Это — быт крестьянства, купечества, пышный парад костюмов. Значительное место занимают цветочные мотивы — пышные «розаны», писанные широко и декоративно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стречаются экзотические львы и барсы. Особенно часто изображение горячего, сильного коня или петуха в гордой, воинственной позе. Чаще всего это парные изображения, геральдически обращенные друг к другу. Городецкий мастер росписи любит цветы. Они всюду разбросаны на поле росписей веселыми гирляндами и букетами. Декоративность мотивов подчеркивается декоративностью цвета и приемов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Любимые фоны — ярко-зеленый или напряженный красный, глубокий синий, иногда черный, на котором особенно сочно расплескивается многоцветие Городецкого колорита. В характеристике сюжета разбелённые тона дают богатые оттенки цветовых переходов. Роспись ведется кистью, без предварительного рисунка, свободным и сочным ударом. Он очень разнообразен — от широкого мазка до тончайшей линии и виртуозного штрих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Камаринская.wma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693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3" descr="Gorodezkaya rospis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1371600"/>
            <a:ext cx="3152520" cy="205740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g11.jpg"/>
          <p:cNvPicPr/>
          <p:nvPr/>
        </p:nvPicPr>
        <p:blipFill>
          <a:blip r:embed="rId4"/>
          <a:stretch/>
        </p:blipFill>
        <p:spPr>
          <a:xfrm>
            <a:off x="5638680" y="1219320"/>
            <a:ext cx="2971800" cy="40860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5-1.jpg"/>
          <p:cNvPicPr/>
          <p:nvPr/>
        </p:nvPicPr>
        <p:blipFill>
          <a:blip r:embed="rId5"/>
          <a:stretch/>
        </p:blipFill>
        <p:spPr>
          <a:xfrm>
            <a:off x="2286000" y="3809880"/>
            <a:ext cx="2763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959.jpg"/>
          <p:cNvPicPr/>
          <p:nvPr/>
        </p:nvPicPr>
        <p:blipFill>
          <a:blip r:embed="rId2"/>
          <a:stretch/>
        </p:blipFill>
        <p:spPr>
          <a:xfrm>
            <a:off x="1752480" y="1066680"/>
            <a:ext cx="472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Гордецкая роспись1-"/>
          <p:cNvPicPr/>
          <p:nvPr/>
        </p:nvPicPr>
        <p:blipFill>
          <a:blip r:embed="rId2"/>
          <a:stretch/>
        </p:blipFill>
        <p:spPr>
          <a:xfrm>
            <a:off x="2514600" y="1066680"/>
            <a:ext cx="35863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осим простым карандашом рисунок на заранее подготовленную поверхность. Рисунок должен быть продуман заране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Если это деревянная доска, то она должна быть отшлифова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Гордецкая роспись1-2"/>
          <p:cNvPicPr/>
          <p:nvPr/>
        </p:nvPicPr>
        <p:blipFill>
          <a:blip r:embed="rId2"/>
          <a:stretch/>
        </p:blipFill>
        <p:spPr>
          <a:xfrm>
            <a:off x="4687920" y="609480"/>
            <a:ext cx="311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5383080"/>
            <a:ext cx="8474040" cy="9986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анесение цвета на основные центральные элементы 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2" descr="Гордецкая роспись1-3"/>
          <p:cNvPicPr/>
          <p:nvPr/>
        </p:nvPicPr>
        <p:blipFill>
          <a:blip r:embed="rId2"/>
          <a:stretch/>
        </p:blipFill>
        <p:spPr>
          <a:xfrm>
            <a:off x="4702320" y="609480"/>
            <a:ext cx="3085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удент</cp:lastModifiedBy>
  <dcterms:modified xsi:type="dcterms:W3CDTF">2011-06-10T07:56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